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9800-CCB6-46AA-916C-7284F4CC6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C3A-88D2-4A4D-BEAA-FAE1A57B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9A16-8124-440F-A72E-429C3E2B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6E40-9B5F-4FDC-87C0-1BE794EB4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36AB-356A-4CD9-8BCB-AF24733A1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92B7-AEE3-4ABF-8B6B-7DF0FF8B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FA63-61D2-491A-B01B-44B3287D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93A7-1783-4176-BBEE-750339572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EB90-89C0-4DCF-8D6C-564E9FC7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29B7-BABC-4CE1-BF33-EBE2D8F5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3CA-9A33-4BC9-B8C8-5B2DEA49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146F-03AE-49B1-AFCC-9BC0CE23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A117-7F0F-4D35-A8BD-08C1FEBC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E91-BF3C-4802-9AC8-8A36E660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F0F9-EFA6-4843-960D-CC767049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0CD-D70F-4BE6-AED5-4FBEC074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90F9-1A9D-4167-91CE-5C48055C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C93-BDE5-430D-9C1F-F750CDC1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AC1-BAAF-47F9-BC07-3CA1F483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DC95-AEBA-4A54-B61E-F927CBBC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EF3D-F684-4BCF-838F-023BB0DB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A300-A2AA-4101-8851-5A2888A8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1A5D-7F02-46A1-9142-848FEE20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DF3D-2249-4106-AAD2-9F011514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372-6E26-4DC5-AAC7-15535FD3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BBB8-0148-4DF6-8C82-BA0CEA05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F88-831C-4B77-B8EA-C0047C05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E324-5C3A-4E4E-AFD0-4A17C1212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C4BA-0386-4154-93E6-A8148E22C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B68A-1569-45E3-A10B-F61C0A4C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C3D-9FCE-4165-8696-BCE801A2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4C3-61D6-4AA5-830A-E75C1298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F71-3DB2-4B2F-BFCB-C2E679FE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758-5FA8-4E0C-82A9-6E5B92EC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425-5C0F-44ED-AA74-1C65F83A3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762E-FAD3-4359-8D1A-E7639343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DFA2-1193-480A-AF58-1D26F421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484-041C-4425-9EC0-7147D840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A2E9-7F7A-4E6B-A1ED-9E0B657E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1E6C-7C24-4E6C-B0A8-D1A7E033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2DAA-20D9-48F1-8D35-00865CF9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BF1-51A9-4272-B12E-05A05715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6CD9-D3FB-414D-9489-09E55A70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186A-8E94-4B6C-83C3-B3404CCE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E0D9-72E2-4BB3-B302-76C1F2F6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742-728B-4FF5-974A-314877AB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912-F16D-4A2A-8FA7-6BC0BBB8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71F4-D9DE-429D-9C43-9F75BDF3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4530-2406-4CF5-BBD7-B836606D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6697-E65B-4D2A-8962-67EF013E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E9B0-11AC-4249-B02A-E388EE17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0D0B-86C0-4BF5-BB5F-ECDB5B61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AFFB-C0F9-4669-A4A0-5C65123D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D19D-9DF6-4349-B845-E21200A88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D6D-4122-4423-9959-AF56F810C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0ED0-325D-4246-942B-3E0931C4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FE67-1029-43F9-BD49-8B1A1FC1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1631-D18A-488D-8522-62658EA08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8B40-7663-4A36-9A9A-C7820E86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9E9-E9BC-402F-84F5-E6B13B56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A9C0-8854-43FF-BB1A-A072F1AD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8FE-34EA-4035-9878-44C13260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CB14-57F0-42E4-867A-8FBA255C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E1DC-8587-4FF4-89B5-67D3C786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A2C-23BC-432B-A007-8595AE6F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39E-65CC-4247-AE9E-7A1BB498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AFBF-3DAB-4086-ADDC-6CC01A99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B7F5-5CF1-4367-9965-CDF8BBF9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7B96-3D73-40EF-BB2D-F40624D7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1C8A-2A94-49F2-931E-F92F646D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C92-33CF-41F2-80A6-339C25C2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7E67-67C6-4966-85C9-F122D4CC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ED4-502B-409D-ADAD-C5CD2D96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F44B-D448-4BAF-9937-486AE3F57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673D-C806-49FC-BCF2-14F850C8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BAA-2DE4-4DD4-B5F1-502ECA22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5E39-E106-4D8C-A408-B88A9B1E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5C05-7816-4536-B895-7E542F78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4242-9CB4-402F-A4B8-CEC4C995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327B-506B-4427-B8A8-08CAF5CBD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0A80-48B1-4A13-8D53-61F16BF6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905E-F421-4A69-9C35-E1A3C025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3B6-5A37-4550-A117-4B14A780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0C39-F2A4-4C78-A62E-671EDE9A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9D23-796B-426B-A983-7CC1F0FF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E42-28FA-442B-8451-3F3EBD44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C83-6977-4F21-91BF-34A67F15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929-92EC-46C0-B813-99B6F5F7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9A21-B58B-436D-933D-11E37744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1D9-5087-403C-BCFC-E7F81B96F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A53F-65FD-4C36-A799-39D9EF9C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DE4-DCB1-4BAB-B64A-7061A0C0A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04B6-3310-4C7D-8583-0B9639EF1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9544-1E58-4E7D-86FA-B9C5B29E8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E424-0578-4212-BD76-CC0A1211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B287-ECD4-4FCB-A837-4F5863BA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DDDE-46FF-4FF2-835F-0235B737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6D06-2CE0-4435-ACD5-D340D399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3005-E129-400E-9141-3A611B839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390-67A0-4987-B27B-50138446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0F0-9A03-4A79-A749-BEE0F3AA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D9D-5059-44AE-8B88-749DC34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D70-7160-4D0A-AFD8-BC9927E7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ABE-9870-4079-9805-1A74054B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42B-AB0C-4650-81E7-D58F417B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AB2-1EF5-4F8C-81BA-273D33E7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31D-3E46-4B01-8F43-1E8FE9B6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A73-7B86-4381-B767-5C4883B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DCA-B4D5-4D3D-8F1B-4DDDA3E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B2D-27B5-4928-81CD-62B008C6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7B7-C3C4-4D0D-BF1F-3FC47BA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85A-88A7-404C-82AD-08F05FD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F52-3C01-4AFC-B3DD-BDDA670596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14400" y="16765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r goal is about understanding or about important mathematical thinking and not just “doing”, your consolidation question has to reflect t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BF61-06A1-40E0-9DE8-9CD774D938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8151-6D34-4FF5-8934-EC52B38163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had a lesson goal tied to a big idea. Did I achieve my lesson go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opening it up, I continue to allow for exposure of student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61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ki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90720" y="28195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a problem to see how thinking about difficulties students might affect the task you s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AECA-F346-4C29-BF8B-99C7149C84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66680" y="1828800"/>
            <a:ext cx="7417080" cy="85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A5D7-5B8E-472D-95CF-424354BD92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66680" y="1828800"/>
            <a:ext cx="7417080" cy="78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5781-3D9C-4D7B-AD5B-BA480C70BA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493-187F-4ED1-AFE4-8EA1C9A6A4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plan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3858-80AC-4F17-8C49-8DED570C44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t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ing about ways to differentiate instru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ADA9-4194-4B4A-9265-14693185F7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C6DE-3F98-4BFE-80E5-E5F81E17C4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D89-4D9F-4EC9-BA5D-047812324B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for the View and Discuss between-session opportunity you took advantage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738B-B090-41B1-A871-B8525746AB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718-81C6-4D61-99D2-47FCB4991E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23D3-5C68-41F5-8153-F9AD93BE86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75BB-E85D-41EF-9B5A-D6ED87D3D7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C84F-2BE0-4F7C-8FFE-9431A7D6A6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C0A-A474-4821-B72B-5667DE9E44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D0F9-D9DD-4B1B-8AF8-042B83D64E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3418-D5D1-43A5-8354-C92923644F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(the action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F583-F297-447A-A648-BFF22230A8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4B0-9C3A-4F0F-9334-009EB185A0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icture 2.png"/>
          <p:cNvPicPr/>
          <p:nvPr/>
        </p:nvPicPr>
        <p:blipFill>
          <a:blip r:embed="rId2"/>
          <a:stretch/>
        </p:blipFill>
        <p:spPr>
          <a:xfrm>
            <a:off x="129528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icture 3.png"/>
          <p:cNvPicPr/>
          <p:nvPr/>
        </p:nvPicPr>
        <p:blipFill>
          <a:blip r:embed="rId3"/>
          <a:stretch/>
        </p:blipFill>
        <p:spPr>
          <a:xfrm>
            <a:off x="1295280" y="4648320"/>
            <a:ext cx="118116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90720" y="2590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 alternate versions of the money problem to deal with some of those difficulties students might have. What might they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8C60-A2A4-41F5-A351-8EA7F283D0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30C1-80D1-412B-9DCA-C7A4B2081A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different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ose this: 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C590-1D47-451E-BEC8-35D2FA603F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0976-C426-4C72-B98D-5410FE6F8C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goal is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ect students to use information about the slope of a line to tell you other things about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89DE-6D52-4A38-96D8-87991EADAE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mayb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could work with only positive slopes and it would be o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7D82-DDF8-4C90-B58B-CEF6EC9361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876920" y="205740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F2DF-8324-4766-A35A-3C3A8C830E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214956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A757-F1A9-46EE-902E-48D78BD360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EA8B-AD87-4028-B9C0-AC9128603F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35D5-04E3-4028-9458-5D9A369CD9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66B-926F-43F7-8E75-F1D1F2E965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sic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870D-DECB-46C5-B8E9-75C03E1ED6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214956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a : $1.15 in quarters/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3200400"/>
            <a:ext cx="7772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y : $0.80 with half the quarters/twice the 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each for Li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8580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066680" y="2362320"/>
            <a:ext cx="7417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this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 as its val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concerns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E6D-D09D-4B6E-A727-49A41DDD9E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structiona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7E4-3E83-4E7A-B7A0-9E5038BE37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7208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problem is a real-life application of linear relations (actually involving two relationships). The solution method shouldn’t mat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EF9E-7D71-4A49-8929-031BE02BEA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2120" y="214956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1:  Use equations to model the problem and then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2: Solve the problem using only number thin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AA38-9C16-4BF7-93CE-FA1605A687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2120" y="1905120"/>
            <a:ext cx="77724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AB54-6CFF-4C5C-898F-177CB0BA17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322-1209-4BAB-B08E-0179128FF4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3D11-3A07-486B-8080-2E200B4E91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62120" y="214956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students to make the connection between operations with polynomials to operations with numbers by representing the poly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B0EA-FCA7-40BE-8A2D-476A4C29F9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peration does not have to be the iss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FCF1-B2B0-40F0-B094-15367CF88D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62120" y="1981080"/>
            <a:ext cx="320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343400" y="1828800"/>
            <a:ext cx="3657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2EC1-65DE-43A9-8F68-1C02F56E56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BB8-B60E-4017-8504-021ED4BFE8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5800" y="9907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066680" y="236232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requiring more focus for you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6BD7-418E-4B9C-96B0-5CC89BFD34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9802-E755-4EB2-B982-D49C3DFB8F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6916-64DF-4979-AE34-F219B5B789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1752480"/>
            <a:ext cx="7696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CA5C-1D4A-478E-B26E-CEB8FF53EF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6B3-8332-45ED-A1D4-195B906835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5BF-00B0-43A1-A86C-DE02FE9CFB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90720" y="1981080"/>
            <a:ext cx="3047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30CC-C668-4525-A0B3-557E97F0E2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105520" y="1905120"/>
            <a:ext cx="30477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698-9769-49E7-B381-114727283A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lation the graph repres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A340-6F07-4EC7-A1BA-5DE09AFAF1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1066680" y="22096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AA00-E5A8-4591-A4A8-FD2E1530A7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C68-A44C-45D9-82BF-E92A021F06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066680" y="236232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questions are lingering from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646E-2F2B-4368-AF75-6702A386E7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990720" y="2057400"/>
            <a:ext cx="25146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A043-70E4-46B3-BEC4-3BDE76D76F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0" y="1981080"/>
            <a:ext cx="41911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155600" y="9907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E49C-1168-4D48-8090-B2FC1C6679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2DB2-703A-48C1-AB22-3E9BE92FC6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7958-BCC7-4603-A253-8DB9C781A9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and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are somewhat more vag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9F3-F194-4C04-9DEE-971524C35A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990720" y="22096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745A-9E0C-4065-AEC2-6C756CF2FA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tell the equation of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0488-4EDF-4552-89AF-DDCBF461F3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854B-501E-48CD-AC62-B5F3A0FA74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4F7C-29A7-4BBD-A8C3-5E74A94730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-on open question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4234-532F-46FE-9497-37C8DE92F6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66680" y="23623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do any activities related to our work between session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share 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2C4C-5EBA-4A62-B16A-BF4CF3E619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3431-D738-40EA-979F-410FE44DAD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CCA8-C7F7-4FE5-B6F6-A5505A3A37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066680" y="2057400"/>
            <a:ext cx="73152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1C5-BE68-40D0-9F46-F92682B994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43000" y="4572000"/>
          <a:ext cx="6095880" cy="1158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063-54E3-4C2A-B904-025A03B464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636C-7837-4AFF-99D2-F648FEEEC6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066680" y="1676520"/>
            <a:ext cx="73152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3x –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6486-472E-4764-9FBD-F21431286E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9DD2-1A68-4EB3-8FD2-138EA6C32F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E018-C13B-4B22-BFA5-F9B0ECD7BD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4F04-FCD2-4AD8-82BB-CB16DAAFE3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. What do you notice? Why does it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5791320" y="419112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B78-CCEE-4D06-B41C-82EE6CE84C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make up other sets of quadratic equations that have something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5800" y="9907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 last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90720" y="190512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focus in on a goal you can accomplish in on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7935-BA25-4309-A2E5-FC63EE1BE0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CCCB-1FDB-4354-BEED-21470BC93C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List a bunch of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9402-8E99-4AD9-8866-71EACBFAEC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this more op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827F-96F2-4357-925B-BAB5F3A2AE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588-74A6-43EF-A12D-995FD7D2DC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, e.g. 4x – 2 = 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3EAC-A931-4F18-960E-D7F6AE1BEE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9DD-9D54-4E68-B351-20B2D1504C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932D-6F4F-43C2-9F16-2C43B029B1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94A6-1EDE-42B8-8870-5EF3B6591D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57E-2AE1-45AC-8424-AA1B70E668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927-9E1C-4D16-BC6A-A3E59C6DE5D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be sure about anything about how their equations d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041480" y="2057400"/>
            <a:ext cx="741672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ask a question that consolidates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the responses to that question as useful assessment for learning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8EE7-B6C8-4BD6-B3AC-314E9C216D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246F-002F-47BE-B773-8836ACF63D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066680" y="2057400"/>
            <a:ext cx="731520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B07E-BD66-486D-A03C-A411785128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066680" y="2057400"/>
            <a:ext cx="7315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n open consolidation question that you might use having taught students a lesson about how to solve equations of the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x +b = cx + d  (e.g. 2x – 4 =3x 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A89B-A2BA-401B-91A5-47E528ADE0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607-3042-41C2-89E8-510D624531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1B8-56FD-443E-8617-DF4FA836AA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8A56-D20E-48B7-ADE4-954D9668D4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5A76-3E8A-4C90-B4F0-19E49BDDCD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9A9-31EF-4BF7-B5A7-C84159FB45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B89E-C045-4B87-BDA8-DAF5E83D33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essment for learning is your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open question should be accessible to virtually any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D0B2-B4F4-44B2-A21B-9C0D5E8E42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really an unscaffolded investigation, whether large or sm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who need scaffolding receive it, but not everyone needs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00:10:54Z</dcterms:created>
  <dc:creator>PSteele</dc:creator>
  <dc:description/>
  <dc:language>en-US</dc:language>
  <cp:lastModifiedBy>Marian Small</cp:lastModifiedBy>
  <dcterms:modified xsi:type="dcterms:W3CDTF">2009-10-11T01:26:36Z</dcterms:modified>
  <cp:revision>298</cp:revision>
  <dc:subject/>
  <dc:title>Slide 1</dc:title>
</cp:coreProperties>
</file>